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DF7-6EF7-4827-B8B3-FD0EFE54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34F-42B9-49F6-8EF2-EB4258AD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F77-67D8-4E11-B330-6FF27F5B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603-DA57-41E4-9196-7E9563F0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02A4-1327-41F6-9512-4B9A5701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2BCB-00DD-431C-A612-7BF1D56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841E-A2DE-4D19-A9DE-660AD55A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59E-A165-4017-897A-99562271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22B6-E210-4FF2-8869-A0D7F1FD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9FDA-DE0E-4BB3-82C9-DE8E302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02BC-600A-40D9-A196-29DC849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BA5-E014-4A2B-969F-163A08E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01C0-2499-4ED8-A020-28D90A2E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E08-97B8-4D36-B908-EBF1CA9F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82EE-03A1-4EA5-B3BF-573E5D03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5C0D-207E-4634-BFF0-3E4B80FF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80E7-2B60-48A2-96EE-691A41FD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A2B-D363-4C5F-928A-E97B45E2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4AB-137F-4D0A-A54F-B478A2FF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142-9238-4AC1-8061-BCAE218F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E0C-9386-4AB6-A325-2A7BC632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87A-4D95-42DB-BAED-D064FB8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F85-29BC-40DD-8195-C4D44D6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A60-F7AE-45E9-A921-8932C9DA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EAD-3B2C-4521-A161-ECCEBD4B61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453F-4956-4234-A283-40DED4E1CF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2209680"/>
            <a:ext cx="59436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re you read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or colleg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416400" y="5548320"/>
            <a:ext cx="174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Dr. Carol Gord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Boston Universit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20 August 200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2286000"/>
            <a:ext cx="792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urse:  Special Edu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search Topic: Disabilit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llect current articles that pertain t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spects of disabilities covered in clas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ummarize each article and relate it t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urse reading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urse:        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port Psych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earch Topic: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 area of your interest in Spor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sych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rite a 14 page research paper on any aspect of sport  psychology that includ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tatement of the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ta collected from a survey or questionnai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alysis of resul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2080" y="2286000"/>
            <a:ext cx="8251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urse: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undations of Educational Inqui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earch Topic: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ly Childhood Educa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signment: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rite a proposal of an aspect of early childhoo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ducation that interests you. Includ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tatement of the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ignificance of the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view of the Litera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lan of inquiry and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28600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urse: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hysics for Science Teach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search Topic: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ow does Physics affect our live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hoose an area of physics conducive to problem solving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e.g., physical force, centrifug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duct an experiment or apply a concept to solve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blem (e.g., How can force be used to separate particles 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lution to produce a medicinal drug?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rite a report in science format and publish it electronicall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 WebCT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ork with a partner to assess the work of another stud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hich you access from WebCT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3480" y="23796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urse: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RE Sci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search Topic: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sciousnes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ssignment: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rite a two page paper that defin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sciousnes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se at least two sources other tha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class textbook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13372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urse:  Introduction to Scientific Archeolog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search Topic: Analyzing artifacts from an archeological di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udy the contents of the packet from a dig in Belise tha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tains: organic remains; map and background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the site; pottery shards and dates; floral and faun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mains; radio carbon dates; cross-section view of thre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eatures on the site (3 mounds that had occupation levels, tw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which were burial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rite a 4-7 page paper that analyzes the site using wh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you learned in lab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swer five outlining questions (e.g., Include any hypothesis you derive from the site such as migration pattern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36232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urse: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dren’s Litera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earch Topic: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ooks for childre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oose a theme in literature for childre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e.g., disabilities) and a grade level ran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ile an annotated bibliography of 50 books f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dren that includes, reading level, full citations,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 annota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librarian as a role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pre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ing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ing accountable curricul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ing product and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ducting action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ing a change ag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HIEVING CREDIBILITY= MAKING A DIF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2:23Z</dcterms:created>
  <dc:creator>cgordon</dc:creator>
  <dc:description/>
  <dc:language>en-US</dc:language>
  <cp:lastModifiedBy>Carolyn Markuson</cp:lastModifiedBy>
  <dcterms:modified xsi:type="dcterms:W3CDTF">2009-12-15T00:27:41Z</dcterms:modified>
  <cp:revision>2</cp:revision>
  <dc:subject/>
  <dc:title>PowerPoint Presentation</dc:title>
</cp:coreProperties>
</file>